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6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4AD-A83E-4D7C-BF2A-726015EA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E30-3A22-4062-A98F-85BFA15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FE591-077C-45C4-809E-8219073B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3FD86-964F-4A35-8B79-FC475C74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9EA47-FA7F-42F1-B85D-A0B28669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1DF63-1064-4724-915D-D57828A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6F160-A8C0-4758-8768-915F48E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41C21-6603-4E6D-948C-C14737A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A3438-21EF-4A83-83F6-1BED78B0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0F17C-412C-4300-9749-021A7F42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7AE34-F258-469D-ADF5-A2B7FC94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53103-E9D5-4BA7-9BCC-8B680D36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7E1-2897-4015-8ED3-01F4D198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1EFF2-C16D-4131-9A63-E891A713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F3D85-1B2B-4283-9F41-0F4E13D5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72790-08A9-41A9-8506-30263E32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04426-B04E-4761-84FD-DA397783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3246A-B774-4A2E-88B8-0C82087B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418FE-45CF-4A08-A34C-C1256DA7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510ED-9FD6-4D30-A2F8-9B807B5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3264D-50B6-488C-A34A-C48A20A3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EBA84-609E-433A-A8BB-2283036A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7543B-D043-4CAE-ADAF-05F9ED5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455-6163-4FEF-AEAC-62E50537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7D89D-002F-4933-9C47-D854633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D66E9-4D46-4319-B7AB-9BB21D1F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D3770-3FFC-484A-94DF-7C6C2D7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54E9-9C35-42B2-874A-349226D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88CC0-F039-4316-9E96-6C0F290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49D45-784D-4409-B9C5-9506D858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3D108-B868-431B-96C9-C187F23F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F910D-5085-417F-AF77-A710F3D9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3CD17-1EE2-4641-B753-0C1653F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C181A-84DA-44C4-9C1A-E31DD1E8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51D-C88A-4CF5-9465-69701D1F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0025-DE54-4878-977B-8F2E4106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6223-1316-4ED2-B89B-F1EA1D2D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6648C-FBF0-4D85-8CEA-EE5F40FB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9BBBB-ABFF-4356-877B-E548EB18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596A7-3F37-4831-9F3D-B7C8363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7C094-D1E2-4090-AFA7-B0353819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E1FE5-9F47-4AC0-A736-88CE0B9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D988A-F34C-497B-A125-AACC590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FA119-F0BB-4F1F-BA26-AD1A892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EC4CE-8405-48FC-AF46-7F90AED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6841-BEBA-4D7D-B607-C9B9084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07B6F-67DF-486D-B241-582EB6B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4333A-7C86-4E50-90DC-2B452F0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8FE99-FA85-4767-B7AC-3B35ED11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8BA0F-541D-4929-A8BD-5785579F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9F90E-60B2-4E93-AAF3-51CAA019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D9B-50B3-42B6-A1AB-FD5C0C74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22AB-6285-4903-BA51-E4817219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870-D367-4570-A30F-555412E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F511-758B-446E-A9DE-5074AA3B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D8F2-5ADB-4070-8DAD-2F9F28D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155-86BE-47FC-9961-A91A4F9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591B-20E6-4463-85A2-34210D7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450F-52D1-416B-BFDE-BDCE6A6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5C34-86F0-4D9C-98FD-9C441714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1C1A-3653-41CB-9D83-7CAC80C2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5ACD-361A-4FD1-BF19-615236E9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8C3C-702D-48D3-ACCD-F6DA26C8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D5CD-4844-4226-AFE8-F47D221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6E65-F870-4D62-B8AD-27C27E40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32A5-E001-4882-A06F-8BD873A8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3E48-02AA-4032-B422-A4A2619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285-24BB-44A2-B59B-778B416F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080A-04EF-4EB2-8761-35A5DF10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D55C-880C-494E-9195-54D3D17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E521-FA6B-4B0F-9FB4-8DD52CE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AC4F-6276-4F11-9FB0-B1196C81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DE10-76C4-40A9-9987-9A8B9961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58EE-DFAF-4AAD-AA6E-2B52DC8F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0C20-433D-47F8-BBAD-F722AAA5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BDF3-3B3A-4BB9-B583-665A0AFA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E114-8FA2-42D9-B28F-DF8F9B4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3B07-9106-4915-BCDE-69230624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A99-6831-47C5-8540-FF02E312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FEC5D-DD5C-40FE-986C-212780C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540E-2DD8-482A-B441-51CCBB5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BC38-D989-4377-A7D6-DA377B2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01B9-597A-4EED-A01B-2719F8EA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115B-84F1-4CB2-A9D5-9640EC4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BCFB-096E-4B53-B2B9-081D1A97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6C23-D101-4947-95D7-8755AB64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1B5E-F41B-4C58-8FBB-5B3D3F63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6E13-FB79-4F65-8757-418BEE5B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3621-02D4-40E1-A82A-D14173D5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4A9-0238-411B-8683-9EA8467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023ED-8EDA-43A4-B487-307BD825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AB38-CA3C-4257-A0A5-2E73413B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61B5-4B13-43A9-BB2C-A9D7C533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FD573-20AF-433B-B4C4-6B8A5303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7C07-6723-417B-8E6A-92D0C15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3AED-A7B8-44EA-9722-8F2911C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48470-E5CE-415E-96E2-E027F8A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C1DE-45F9-464D-A181-F357829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D8C6-D38E-4A89-A0C1-41B4CA24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C9CA-2D32-4994-A0B6-79DBB864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0D3-F31D-412E-897A-1F8923E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6612-F97B-48F1-B78F-A925CB9D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0809-4A11-4A73-B65F-266DDEA6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AB17-E2B2-4654-B1D8-55707177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EF59-1F6A-48AA-B196-FA78BCCC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6441C-C591-4599-8D5F-E8989DC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C3FA4-B46C-4ECF-9F15-3C871476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0502A-E26C-40A9-AB61-9C179704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2E0E8-1621-4581-95DC-C046A04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EA8C-6765-4A19-BFBD-DFC0EA1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52EF3-3D2E-45A9-B425-4B73212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B2A-F374-4CF9-B89C-AF7BBC7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B9D1-E99A-42A0-B101-27274C5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F95D8-4181-4A68-9123-FD6A2D89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B8A8-F3C6-4C0E-A640-BA1E303E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49F1-7F10-4F92-B55E-77556FE6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78DAE-0192-48AF-90ED-4E9B52B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30134-80CD-4F8F-A19F-AC85A2C5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7F84C-F650-49DA-AB8B-4760206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3F117-85ED-4542-A264-AE305F7D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1847-16AF-4CB5-A1F2-F684C762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FEB1-97A4-4DDA-9D90-96BCD47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ADA-1A56-41E4-B292-F123F97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CB13E-BA5B-4439-B351-71EBB3BF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94935-C830-47A6-9770-4C5AB044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0E2E-D333-4296-82A0-C99EF854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B637-6766-486D-8BAB-63B27A15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D51D6-34FC-49B4-99CB-76898367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2B071-4E1B-4515-B786-B0F9AFF3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A9D1-3D11-4757-B503-B409FA8D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23C5-BFD5-4E70-BFB9-5B4FDC2F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568C-0548-4177-9057-B695C63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1F99B-1CA6-4668-89BB-A010F94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A2B-A803-437F-9817-94DE3BF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B8313-E4E4-4BEF-AD68-E648FF7A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3BF61-761F-4D97-99A6-72D47CA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E74AB-F1A4-4288-8664-F427DEA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17FCC-F30F-4E35-86A5-C7032CE8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BF56D-389C-4635-80B1-462D833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FBE4-4CA6-47F7-96CE-7AAD62FA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02D63-5A37-478F-AC30-5A3430A4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609FA-865B-4ABF-8F77-BDBDA619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7D521-B2C3-4556-8A0F-679F6293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D8F03-9953-4090-A3A8-42FC2E9B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0658-1873-4785-87E6-E7468F0F3D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D60-A1D9-491D-8F82-1A94775CF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A242-9B0E-4C5E-B423-430F8E0FD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4E7A-A9C6-4171-974F-4DA2B8DF1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C4B7-F287-4C2F-B095-74F9EE554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718-D931-4188-9DF3-023711B39F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6093-0DA1-404F-B851-F3F2253CC2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54F8-D669-44EA-A04A-AD03CBC39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C5E-0C7A-48EF-B29C-0C3EAE8DAF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0155-29A4-4545-ACA8-F5A8491E6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804B-665A-434E-85E2-4C4B51C257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23E-4373-4BA4-83CD-D787DE04B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46b86"/>
                </a:solidFill>
                <a:latin typeface="Georgia"/>
              </a:rPr>
              <a:t>GRUPA I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RDELEAN ANDA MARILENA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URYA THOMAS PATRIC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ORN KARIN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OSIF TUDOR ANDRE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ĂPUŞAN GEORGIA PATRIC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TRIC ELIZ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dunarea</a:t>
            </a:r>
            <a:r>
              <a:rPr b="0" lang="ro-RO" sz="4200" spc="-1" strike="noStrike">
                <a:solidFill>
                  <a:srgbClr val="ffffff"/>
                </a:solidFill>
                <a:latin typeface="Georgia"/>
              </a:rPr>
              <a:t> fracţiilor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 care au acelasi numitor</a:t>
            </a:r>
            <a:br>
              <a:rPr sz="4200"/>
            </a:br>
            <a:r>
              <a:rPr b="0" lang="ro-RO" sz="4200" spc="-1" strike="noStrike">
                <a:solidFill>
                  <a:srgbClr val="ffffff"/>
                </a:solidFill>
                <a:latin typeface="Georgia"/>
              </a:rPr>
              <a:t>Aplicaţii practi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"/>
          <p:cNvSpPr/>
          <p:nvPr/>
        </p:nvSpPr>
        <p:spPr>
          <a:xfrm>
            <a:off x="1571760" y="2214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e şi auxiliare didactice, culegeri de 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. Branzei, D. Zaharia, M. Zahar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te 2000 + 10/1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 Editura Paralela 45, cls.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G. Turcitu, I. Rizea, C. Basarab, M. Duncea, P. Ciungu, I. Chiria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  pentru clasa a V-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, E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itu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Radical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ocumentaţie diversă in format electronic, site-uri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http://images.google.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"/>
          <p:cNvSpPr/>
          <p:nvPr/>
        </p:nvSpPr>
        <p:spPr>
          <a:xfrm>
            <a:off x="2643120" y="8571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99"/>
                </a:solidFill>
                <a:latin typeface="Arial"/>
              </a:rPr>
              <a:t>Bibli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George a desfăcut o portocală în 14 felii egale. El </a:t>
            </a: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a dat 4 felii lui Dan şi 3 felii lui Mihai. Cât din portocală a dat George prietenilor săi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5857920" y="4286160"/>
            <a:ext cx="1833480" cy="18334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" descr="Happy_orange"/>
          <p:cNvPicPr/>
          <p:nvPr/>
        </p:nvPicPr>
        <p:blipFill>
          <a:blip r:embed="rId2"/>
          <a:stretch/>
        </p:blipFill>
        <p:spPr>
          <a:xfrm>
            <a:off x="6000840" y="2928960"/>
            <a:ext cx="1371600" cy="1214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Silvia şi-a adus la şcoală pentru a mânca, o tabletă de ciocolată, pe care şi-a împărţit-o în 9 părţi egale. În prima pauză a mîncat 3 bucăţi, a doua pauză o bucată, iar în pauza a treia a mâncat 4 bucăţi. Aflaţi fracţia care reprezintă ciocolata mâncată de </a:t>
            </a: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S</a:t>
            </a: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ilvia în cele trei pauz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7" descr=""/>
          <p:cNvPicPr/>
          <p:nvPr/>
        </p:nvPicPr>
        <p:blipFill>
          <a:blip r:embed="rId1"/>
          <a:stretch/>
        </p:blipFill>
        <p:spPr>
          <a:xfrm>
            <a:off x="4857840" y="2571840"/>
            <a:ext cx="1357200" cy="1571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"/>
          <p:cNvPicPr/>
          <p:nvPr/>
        </p:nvPicPr>
        <p:blipFill>
          <a:blip r:embed="rId2"/>
          <a:stretch/>
        </p:blipFill>
        <p:spPr>
          <a:xfrm>
            <a:off x="5929200" y="485784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"/>
          <p:cNvPicPr/>
          <p:nvPr/>
        </p:nvPicPr>
        <p:blipFill>
          <a:blip r:embed="rId3"/>
          <a:stretch/>
        </p:blipFill>
        <p:spPr>
          <a:xfrm>
            <a:off x="7286760" y="3286080"/>
            <a:ext cx="1104840" cy="1143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Dintr-un balot de pân</a:t>
            </a: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z</a:t>
            </a: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ă, într-o zi s-a vândut dimineaţa 12 m, iar după amiază, 9 m şi încă 2/10 m. Care este lungimea totală a pânzei vândute în acea zi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1"/>
          <a:stretch/>
        </p:blipFill>
        <p:spPr>
          <a:xfrm>
            <a:off x="5643720" y="2571840"/>
            <a:ext cx="2428560" cy="3500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Într-o grădină, merii reprezintă 6/13 din numărul total de pomi, iar caişii reprezintă 2/13 din numărul total de pomi. Ce fracţie reprezintă merii şi caişii, la un loc, din numărul total de pomi</a:t>
            </a: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7" descr=""/>
          <p:cNvPicPr/>
          <p:nvPr/>
        </p:nvPicPr>
        <p:blipFill>
          <a:blip r:embed="rId1"/>
          <a:stretch/>
        </p:blipFill>
        <p:spPr>
          <a:xfrm>
            <a:off x="4929120" y="3143160"/>
            <a:ext cx="3714840" cy="2386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Marcela citeşte într-o zi 2/17 dintr-o carte, iar în ziua următoare, 8/17 din aceeaşi carte. Ce fracţie din carte a citit in cele două zile la un loc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7" descr=""/>
          <p:cNvPicPr/>
          <p:nvPr/>
        </p:nvPicPr>
        <p:blipFill>
          <a:blip r:embed="rId1"/>
          <a:stretch/>
        </p:blipFill>
        <p:spPr>
          <a:xfrm>
            <a:off x="4714920" y="2857680"/>
            <a:ext cx="4048200" cy="3038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Un automobilist are de parcurs un traseu în mai multe etape. În prima etapă parcurge 3/8 din lungimea traseului, iar în a doua etapă 2/8 din acelaşi traseu. Ce fracţie din lungimea traseului parcurge automobilul în primele două etape </a:t>
            </a: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7" descr=""/>
          <p:cNvPicPr/>
          <p:nvPr/>
        </p:nvPicPr>
        <p:blipFill>
          <a:blip r:embed="rId1"/>
          <a:stretch/>
        </p:blipFill>
        <p:spPr>
          <a:xfrm>
            <a:off x="6072120" y="2714760"/>
            <a:ext cx="1303560" cy="1071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Voies (72x72px)"/>
          <p:cNvPicPr/>
          <p:nvPr/>
        </p:nvPicPr>
        <p:blipFill>
          <a:blip r:embed="rId2"/>
          <a:stretch/>
        </p:blipFill>
        <p:spPr>
          <a:xfrm>
            <a:off x="714240" y="285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C:\Users\User\Desktop\Big_jeep.gif"/>
          <p:cNvPicPr/>
          <p:nvPr/>
        </p:nvPicPr>
        <p:blipFill>
          <a:blip r:embed="rId3"/>
          <a:stretch/>
        </p:blipFill>
        <p:spPr>
          <a:xfrm>
            <a:off x="4929120" y="4714920"/>
            <a:ext cx="3810240" cy="1214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2060"/>
                </a:solidFill>
                <a:latin typeface="Georgia"/>
              </a:rPr>
              <a:t>Doi tractorişti au de arat două suprafeţe de aceeaşi arie. Primul tractorist ară într – o oră 6/15 din suprafaţa repartizată şi în a doua oră 5/15 din aceeaşi suprafaţă. Al doilea tractorist ară într – o oră 5/15 din suprafaţa repartizată şi în a doua oră 6/15 din aceeaşi suprafaţă. Ce fracţie din suprafaţa repartizată a arat fiecare din cei doi tractorişti în două ore?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7643880" y="214200"/>
            <a:ext cx="642960" cy="900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File:David Brown 990 Implematic Tractor.gif"/>
          <p:cNvPicPr/>
          <p:nvPr/>
        </p:nvPicPr>
        <p:blipFill>
          <a:blip r:embed="rId2"/>
          <a:stretch/>
        </p:blipFill>
        <p:spPr>
          <a:xfrm>
            <a:off x="4286160" y="1857240"/>
            <a:ext cx="3167280" cy="2968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http://deerecollectibles.jfnets.com/images/tractor2_tnb.png"/>
          <p:cNvPicPr/>
          <p:nvPr/>
        </p:nvPicPr>
        <p:blipFill>
          <a:blip r:embed="rId3"/>
          <a:stretch/>
        </p:blipFill>
        <p:spPr>
          <a:xfrm>
            <a:off x="6572160" y="4286160"/>
            <a:ext cx="2151000" cy="1947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Un biciclist are de parcurs un traseu în trei etape. El parcurge 8/20 din lungimea traseului în prima etapă, 5/20 în a doua etapă şi 7/20 în a treia etap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Georgia"/>
              </a:rPr>
              <a:t>a. </a:t>
            </a: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Ce fracţie din lungimea traseului parcurge biciclistul în primele două etape?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Georgia"/>
              </a:rPr>
              <a:t>b. </a:t>
            </a: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Dar în cele trei etape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Georgia"/>
              </a:rPr>
              <a:t>c.  </a:t>
            </a: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Ce fracţie din lungimea traseului parcurge biciclistul în ultimele două etape?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Picture 6" descr="Mono cycle (75x75px)"/>
          <p:cNvPicPr/>
          <p:nvPr/>
        </p:nvPicPr>
        <p:blipFill>
          <a:blip r:embed="rId1"/>
          <a:stretch/>
        </p:blipFill>
        <p:spPr>
          <a:xfrm>
            <a:off x="7286760" y="3571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http://www.embavenez-us.org/../imagenes/museito.bicicleta.gif"/>
          <p:cNvPicPr/>
          <p:nvPr/>
        </p:nvPicPr>
        <p:blipFill>
          <a:blip r:embed="rId2"/>
          <a:stretch/>
        </p:blipFill>
        <p:spPr>
          <a:xfrm>
            <a:off x="5572080" y="2428920"/>
            <a:ext cx="1676520" cy="10476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http://www.archicompostela.org/peregrinos/Estadisticas/biker64.gif"/>
          <p:cNvPicPr/>
          <p:nvPr/>
        </p:nvPicPr>
        <p:blipFill>
          <a:blip r:embed="rId3"/>
          <a:stretch/>
        </p:blipFill>
        <p:spPr>
          <a:xfrm>
            <a:off x="5500800" y="3929040"/>
            <a:ext cx="2200320" cy="182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9:58Z</dcterms:created>
  <dc:creator>Ionica</dc:creator>
  <dc:description/>
  <dc:language>en-US</dc:language>
  <cp:lastModifiedBy>User</cp:lastModifiedBy>
  <dcterms:modified xsi:type="dcterms:W3CDTF">2011-01-25T15:35:01Z</dcterms:modified>
  <cp:revision>9</cp:revision>
  <dc:subject/>
  <dc:title>Slide 1</dc:title>
</cp:coreProperties>
</file>